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93700"/>
        <c:axId val="98318503"/>
      </c:barChart>
      <c:catAx>
        <c:axId val="99937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18503"/>
        <c:crosses val="autoZero"/>
        <c:auto val="1"/>
        <c:lblAlgn val="ctr"/>
        <c:lblOffset val="100"/>
        <c:noMultiLvlLbl val="0"/>
      </c:catAx>
      <c:valAx>
        <c:axId val="98318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37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0495-3A3C-4C50-B77D-29F75849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4545-1A0A-4A5C-A3C4-2CAEC1E9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18B-780F-4F6D-8CAE-022D8373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2532-1DC7-449F-92DB-7B243872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484-2743-475A-913C-5492D817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C4C-BBAE-4E84-A2EE-C9E0DDBB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F281-1BDA-4C2A-A5E6-38087B22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4A4F-D665-4E26-A31A-E84EFF40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BE4-03FC-42E1-8BEB-C5DFF946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A2A6-5CCA-408C-9E89-9095AA4D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6ABA-9BA7-4737-9005-932647AA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F00-44AA-4376-9CE7-F2E66755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6B4FF-742D-4768-B690-66147F3297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