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210635"/>
        <c:axId val="18586486"/>
      </c:barChart>
      <c:catAx>
        <c:axId val="692106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86486"/>
        <c:crosses val="autoZero"/>
        <c:auto val="1"/>
        <c:lblAlgn val="ctr"/>
        <c:lblOffset val="100"/>
        <c:noMultiLvlLbl val="0"/>
      </c:catAx>
      <c:valAx>
        <c:axId val="185864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106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673C-F75B-49CE-A3D4-1B4E9295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B29D-AA13-4DD0-86DE-EF42378D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91BF-09E6-4FD0-AAEA-8523B3B9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5899-7A05-4896-9114-AE24B501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965B-D1E1-439D-BE9E-5D4661E8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A27E-233A-464A-8DD4-673798D9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12C4-35AA-408A-B468-22956E2A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C6BE-265D-482A-B4A4-6E660BC8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B5D-CBBB-49F2-928C-7257A6B8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472C-8EF0-473E-B714-85F2BB5E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AA1D-E2EC-41DD-9AF2-035CEE31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A375-8885-4810-9F9F-8134BB22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BFD9F-81F3-4AA3-BBF7-2B6054BB05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