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48049"/>
        <c:axId val="46539157"/>
      </c:barChart>
      <c:catAx>
        <c:axId val="742480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39157"/>
        <c:crosses val="autoZero"/>
        <c:auto val="1"/>
        <c:lblAlgn val="ctr"/>
        <c:lblOffset val="100"/>
        <c:noMultiLvlLbl val="0"/>
      </c:catAx>
      <c:valAx>
        <c:axId val="465391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480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0B2-3008-4FE8-9174-E0BC3F56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4BD2-F406-4DE4-9768-FFC1A9C1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2F0-5D35-48B3-81EF-BB52710C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C640-9BC9-4844-85F8-4BACFC11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3A77-1A33-4951-A3D7-06234B92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EDC2-863B-4CC9-BD61-D8DFB258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1099-2690-4BA8-A3A5-CB4A35E7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609-BC15-4B07-82E9-A83F72D3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C86-A279-4EBE-B4D7-0DEEE91D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834C-84B8-4BD1-B02B-FCEC0C0D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968-B733-4BA5-BCBB-CCB7EA57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56F5-8C72-4439-85F3-C2A87063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39B31-CC60-4CDC-81D0-4EEEEF8D28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