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29007"/>
        <c:axId val="77924831"/>
      </c:barChart>
      <c:catAx>
        <c:axId val="54729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24831"/>
        <c:crosses val="autoZero"/>
        <c:auto val="1"/>
        <c:lblAlgn val="ctr"/>
        <c:lblOffset val="100"/>
        <c:noMultiLvlLbl val="0"/>
      </c:catAx>
      <c:valAx>
        <c:axId val="77924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29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788-9F46-46B1-98B7-8557B873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2A3-1C3C-426B-9728-17764168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866-5EBB-489D-951C-8D6F8F2D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E94-C927-4727-9FA4-4576E6C6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5F6-DFF5-4B0C-BECB-C2718691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2CE-1438-45A4-9E9F-9E379F25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E61-BA7B-4D29-A8A3-A056F33F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512-E2F4-49EA-B542-2F9AB985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86E-C94A-4D81-9125-BA5192F1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CF9-6433-4C1E-B239-F8E5DD1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9CB-0EC9-483B-9FF2-FDEF74C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B46-94F8-42D0-B420-D6B48170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592E5-B338-4AA0-B78F-6488538CA9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